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6A2C-00AD-44E6-ABEC-3784770E1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723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47920" y="3964320"/>
            <a:ext cx="723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CFE9-0F6D-4E78-993A-4298ED792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4792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5736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6F6B-C644-4B35-89E5-7CF25262A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95560" y="160020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43200" y="160020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47920" y="396432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95560" y="396432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43200" y="396432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D32E-7300-476A-8C33-2A8E4FDD4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07458-C495-4FFB-B0D8-721F6B71B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5ABC3-BACF-4CF9-A957-D87E34972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E8CDB-0AA8-42E1-91F2-7A8542F0A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CCF41-FEDE-4B0D-8901-1190B524C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84030-5403-47CD-AAC4-DEB2D935F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371600" y="2743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1C01D-FF29-4FDF-9901-6E998A59C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44792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E7273-6105-45D8-B13F-E071B458F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8C95-F79C-45F7-B12E-4093C23E7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5736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8B2F4-AE1D-4242-98B2-515E4622E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447920" y="3964320"/>
            <a:ext cx="723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3B814-7D57-4A13-B3FB-6D7CBB7A5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723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447920" y="3964320"/>
            <a:ext cx="723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8899A-BA0D-4D43-ADD3-53FE222CE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44792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5736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27A12-CF26-43C1-BC71-177E6E5F8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95560" y="160020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343200" y="160020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447920" y="396432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895560" y="396432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343200" y="396432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C3335-57F1-4AFE-AE18-0E40C9AD1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E778-9A4F-45F6-B622-28B589329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6CC3-DA39-4679-9404-8FDFAEBBD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09CC-E412-44C2-AB82-0CE62C96B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600" y="2743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EABC-D9B0-4396-AF5C-80468ED6C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4792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1CD7-A0D3-41D1-BA10-FD03F20AE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5736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21F5-60EA-4AC9-BCAB-93B4B4EE1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47920" y="3964320"/>
            <a:ext cx="723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2D07-0153-47A8-9D84-4FD0A71C1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61e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1" marL="735480" indent="-282960">
              <a:spcBef>
                <a:spcPts val="799"/>
              </a:spcBef>
              <a:buClr>
                <a:srgbClr val="4f261e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2" marL="1131480" indent="-226080">
              <a:spcBef>
                <a:spcPts val="799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3" marL="1584000" indent="-226080">
              <a:spcBef>
                <a:spcPts val="799"/>
              </a:spcBef>
              <a:buClr>
                <a:srgbClr val="4f261e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4" marL="2036520" indent="-226080">
              <a:spcBef>
                <a:spcPts val="799"/>
              </a:spcBef>
              <a:buClr>
                <a:srgbClr val="4f261e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447560" y="6244920"/>
            <a:ext cx="19047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f261e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f261e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0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f261e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f261e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f261e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46D05-2393-48C9-AD0A-B95F4E38557A}" type="slidenum">
              <a:rPr b="0" lang="en-US" sz="1200" spc="-1" strike="noStrike">
                <a:solidFill>
                  <a:srgbClr val="4f261e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71240" y="1142640"/>
            <a:ext cx="74674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61e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1447560" y="6244920"/>
            <a:ext cx="19047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f261e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f261e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50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f261e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f261e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f261e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03963-4AE0-4F9F-80FF-D324A098EB36}" type="slidenum">
              <a:rPr b="0" lang="en-US" sz="1200" spc="-1" strike="noStrike">
                <a:solidFill>
                  <a:srgbClr val="4f261e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261e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4f261e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4f261e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f261e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4f261e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4f261e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f261e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4f261e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4f261e"/>
              </a:buClr>
              <a:buFont typeface="Garamond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f261e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4f261e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f261e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4f261e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f261e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4f261e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youtube.com/watch?v=p8Znh9Mux_4" TargetMode="External"/><Relationship Id="rId2" Type="http://schemas.openxmlformats.org/officeDocument/2006/relationships/hyperlink" Target="http://youtube.com/watch?v=p8Znh9Mux_4" TargetMode="External"/><Relationship Id="rId3" Type="http://schemas.openxmlformats.org/officeDocument/2006/relationships/hyperlink" Target="http://youtube.com/watch?v=p8Znh9Mux_4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371240" y="1142640"/>
            <a:ext cx="74674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61e"/>
                </a:solidFill>
                <a:latin typeface="Garamond"/>
              </a:rPr>
              <a:t>Evangeline</a:t>
            </a: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362320" y="3048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Songs From Quebec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Chantal Crandall Fr.4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f261e"/>
                </a:solidFill>
                <a:latin typeface="Garamond"/>
              </a:rPr>
              <a:t>La Légende D’Evangeline et Gabriel</a:t>
            </a:r>
            <a:endParaRPr b="0" lang="en-US" sz="40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Évangeline Bellefontaine et Gabriel Lajeunesse a habités à Acadia. Ils étaient amoureux. Évangeline et Gabriel ont été fiancé. Sur le jour de son mariage, ils séparaient, et envoyer à l’Amerique. </a:t>
            </a: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Evangeline est allée à Louisiana, et Gabriel est allé à Philadelphia.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f261e"/>
                </a:solidFill>
                <a:latin typeface="Garamond"/>
              </a:rPr>
              <a:t>La Légende D’Evangeline et Gabriel</a:t>
            </a:r>
            <a:endParaRPr b="0" lang="en-US" sz="40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Évangeline a recherché pour Gabriel. Evangeline trouvera Gabriel, avant il mourirait.  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Gabriel est mort dans les bras de Evangeline. Elle était trés triste, et elle est mort peu après Gabriel.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61e"/>
                </a:solidFill>
                <a:latin typeface="Garamond"/>
              </a:rPr>
              <a:t>La Histoire d’Acadia</a:t>
            </a: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Il est essential que nous sachions la legende de Evangeline. La legende aide comprendre la chanson, et les Quebecois sentiments, et ils histoire.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À 1755 les français expulsent des britanniques.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Beacoup personnes est allé à Louisiana. 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f261e"/>
                </a:solidFill>
                <a:latin typeface="Garamond"/>
              </a:rPr>
              <a:t>“</a:t>
            </a:r>
            <a:r>
              <a:rPr b="0" lang="en-US" sz="4000" spc="-1" strike="noStrike">
                <a:solidFill>
                  <a:srgbClr val="4f261e"/>
                </a:solidFill>
                <a:latin typeface="Garamond"/>
              </a:rPr>
              <a:t>Mais les Anglais sont arrivés…”</a:t>
            </a:r>
            <a:endParaRPr b="0" lang="en-US" sz="40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Il semble que cette pièce décrit une attaque du britanniques.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Est-il juste que les Acadians attaque et envoyer à l’Amerique?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315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261e"/>
                </a:solidFill>
                <a:latin typeface="Garamond"/>
              </a:rPr>
              <a:t>“</a:t>
            </a:r>
            <a:r>
              <a:rPr b="0" lang="en-US" sz="2800" spc="-1" strike="noStrike">
                <a:solidFill>
                  <a:srgbClr val="4f261e"/>
                </a:solidFill>
                <a:latin typeface="Garamond"/>
              </a:rPr>
              <a:t>Car l’océan parle de toi, </a:t>
            </a:r>
            <a:br>
              <a:rPr sz="2800"/>
            </a:br>
            <a:r>
              <a:rPr b="0" lang="en-US" sz="2800" spc="-1" strike="noStrike">
                <a:solidFill>
                  <a:srgbClr val="4f261e"/>
                </a:solidFill>
                <a:latin typeface="Garamond"/>
              </a:rPr>
              <a:t>Les vents du sud portent ta voix,</a:t>
            </a:r>
            <a:br>
              <a:rPr sz="2800"/>
            </a:br>
            <a:r>
              <a:rPr b="0" lang="en-US" sz="2800" spc="-1" strike="noStrike">
                <a:solidFill>
                  <a:srgbClr val="4f261e"/>
                </a:solidFill>
                <a:latin typeface="Garamond"/>
              </a:rPr>
              <a:t>De la forêt jusqu’à la plaine…”</a:t>
            </a:r>
            <a:br>
              <a:rPr sz="2800"/>
            </a:br>
            <a:endParaRPr b="0" lang="en-US" sz="28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Est-il possible que cette décrit l’esprit du paysage naturel?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Le Quebec a beau paysage natuel, comme tel que l’ocean, et la forêt.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61e"/>
                </a:solidFill>
                <a:latin typeface="Garamond"/>
              </a:rPr>
              <a:t>Evangeline</a:t>
            </a: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Evangeline est le caractère avec l’esprit du Quebec.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Elle a combativité l’esprit fort.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Si Quebecois lutte, ils seront libre du Canada.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61e"/>
                </a:solidFill>
                <a:latin typeface="Garamond"/>
              </a:rPr>
              <a:t>Video de Musique!</a:t>
            </a: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66"/>
                </a:solidFill>
                <a:uFillTx/>
                <a:latin typeface="Garamond"/>
                <a:hlinkClick r:id="rId1"/>
              </a:rPr>
              <a:t>YouTube</a:t>
            </a:r>
            <a:r>
              <a:rPr b="0" lang="en-US" sz="3200" spc="-1" strike="noStrike" u="sng">
                <a:solidFill>
                  <a:srgbClr val="ffcc66"/>
                </a:solidFill>
                <a:uFillTx/>
                <a:latin typeface="Garamond"/>
                <a:hlinkClick r:id="rId2"/>
              </a:rPr>
              <a:t> - Evangeline a la </a:t>
            </a:r>
            <a:r>
              <a:rPr b="0" lang="en-US" sz="3200" spc="-1" strike="noStrike" u="sng">
                <a:solidFill>
                  <a:srgbClr val="ffcc66"/>
                </a:solidFill>
                <a:uFillTx/>
                <a:latin typeface="Garamond"/>
                <a:hlinkClick r:id="rId3"/>
              </a:rPr>
              <a:t>fureur</a:t>
            </a: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1T15:51:02Z</dcterms:created>
  <dc:creator>Linda Crandall</dc:creator>
  <dc:description/>
  <cp:keywords/>
  <dc:language>en-US</dc:language>
  <cp:lastModifiedBy>Linda Crandall</cp:lastModifiedBy>
  <dcterms:modified xsi:type="dcterms:W3CDTF">2007-01-11T15:51:02Z</dcterms:modified>
  <cp:revision>7</cp:revision>
  <dc:subject/>
  <dc:title>Evangelin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81033</vt:lpwstr>
  </property>
</Properties>
</file>